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0D2-FA7B-453D-9FAC-DACA0530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D628-D22B-4C78-97D0-525D31A1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CBF3-2ABF-426C-9199-BDD9D633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2EE-99A9-4BC7-9048-D8D8D281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1FCD-0E59-4497-89A2-3AAD6136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9E39-7A96-46A6-9F43-A69917AD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2961-231F-4A7C-91CE-99252578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4631-EB28-4723-BA8C-4A10D9DF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7FCA-BC27-42CE-B285-FB86FC53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878D-73F2-4174-9442-614379F4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E6E8-30A3-4535-85DA-818D4B62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2B2-B858-42E4-93B7-3DD0B633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8291-60EA-4FED-A6C9-55B2BF91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96A1-231D-4627-8910-90C10F74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DE45-E523-4D5B-BAB8-07084D5B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6999-8A22-46D0-86C3-DC5107EC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2999-D73C-46CB-B23F-06304CEE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E6A-8FEF-408A-B34D-98789681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0C2-E445-4C79-8191-5794EB34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12B0-BACE-48F5-90C0-965A11BE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A8B8-7222-4845-A37D-0DD84526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187-B869-4E86-95E4-EC43F02B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D207-8C7C-4CD2-9D2F-BAF735DE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63C-9027-4243-82BE-F0BD76B2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E26C-D96C-4C96-BF94-7E8F43B178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8F9B-AD18-49A6-9862-BD0665A6AC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E3UsXoaTong" TargetMode="External"/><Relationship Id="rId3" Type="http://schemas.openxmlformats.org/officeDocument/2006/relationships/hyperlink" Target="http://www.webwire.com/ViewPressRel.asp?aId=93931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haracteristics of Science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1447920"/>
            <a:ext cx="5715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r">
              <a:spcBef>
                <a:spcPts val="700"/>
              </a:spcBef>
              <a:buClr>
                <a:srgbClr val="80004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ick up the handouts.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r">
              <a:spcBef>
                <a:spcPts val="700"/>
              </a:spcBef>
              <a:buClr>
                <a:srgbClr val="80004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or a sticker, write your answer to these questions in your notebook by the time the bell rings: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 algn="ctr">
              <a:lnSpc>
                <a:spcPct val="100000"/>
              </a:lnSpc>
              <a:spcBef>
                <a:spcPts val="700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hat makes something scientific?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 algn="ctr">
              <a:lnSpc>
                <a:spcPct val="100000"/>
              </a:lnSpc>
              <a:spcBef>
                <a:spcPts val="700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hat sets science apart from other fields?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153704" t="958750" r="354630" b="479375"/>
          <a:stretch/>
        </p:blipFill>
        <p:spPr>
          <a:xfrm>
            <a:off x="0" y="5062680"/>
            <a:ext cx="35053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124080" y="380880"/>
            <a:ext cx="556272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b 19-Mar 2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 21-Ap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 22-Jan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n 22-Jul 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 23-Sep 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v 22-Dec 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21-Jun 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l 23-Aug 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r 20-May 2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 19-Feb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t 23-Nov 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 23-Oct 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Using PLORN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, what is astrolog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TABLE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im makes predictions based upon the proposed mechanis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76720" y="0"/>
            <a:ext cx="58672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76000"/>
          </a:bodyPr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: Any argument offered as evidence to support a claim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ctually accu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o the best of our knowled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alid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s conclusion following inevitably from its premi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Invalid: "All dogs have fleas and Xavier has fleas; therefore Xavier is a dog."  Valid: "All dogs have fleas and Xavier is a dog; therefore Xavier has fleas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urden of pro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ts on the claim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traordinary claims demand extraordinary 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"It rained for ten minutes on Tuesday" vs.  "Human beings are actually meant to live underwater.”  Could I accept your personal report for bot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352320" y="228600"/>
            <a:ext cx="579132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BLE: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idence can be obser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one of the five human senses, or using a demonstrated technological extension of a sense, such as a microscope or thermometer.  All available evidence is conside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BLE: The claim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s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it must be possible for those controlled experiments to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btaining more evidence from subsequent trials and tests.  If you cannot think of a way to experimentally obtain evidence for or against a claim, it may not meet replicabi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133360" y="152280"/>
            <a:ext cx="7010280" cy="647712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:  Natural pertains to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ysical or material wor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imited to nature only.  If either the mechanism or the phenomenon is supernatural, this condition is not m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ATIVE:  It must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sible to conceive of evidence that would prove the claim 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This includes no "multiple outs," which are claims where a falsification result is bound to be the fault of an observer, making it impossible for the claim to be disprov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Using PLORN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71800" y="1981080"/>
            <a:ext cx="5486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strology science, pseudoscience, or non-scie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In Sum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7760" y="1980720"/>
            <a:ext cx="6095880" cy="487692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’s the difference between science, non-science and pseudoscie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does it matter to be able to tell science apar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bout things like this?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http://www.youtube.com/watch?v=E3UsXoaT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  <a:hlinkClick r:id="rId3"/>
              </a:rPr>
              <a:t>http://www.webwire.com/ViewPressRel.asp?aId=9393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Housekeeping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8120" y="1981080"/>
            <a:ext cx="54100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e drill/Lock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t automobile registration forms, handbook sign-off sheets, or ConnectEd shee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-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Practicing PLORN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9000" y="1676520"/>
            <a:ext cx="5486400" cy="4572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able groups, analyze a claim using PLORNT.  Fill out the workshe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descriptive!  Give evidenc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everybody’s done, a representative from each group will report their claim, their decision, and their justifi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sh early?  Analyze extra claims for stickers!  (Remember, stickers = extra cred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Homework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8120" y="1981080"/>
            <a:ext cx="54100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llabus signed, student info sheet filled out, lab safety contract signed &amp; circled.  Due Monday for A, Tuesday for 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were not here for the first day, talk to me after class or during downtim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hat do you think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1981080"/>
            <a:ext cx="5486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akes something scientific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sets science apart from other field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65040" y="6143760"/>
            <a:ext cx="855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is the tension between creativity and skepticism that has produced the stunning and unexpected findings of science.” -Carl Sa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24080" cy="2065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3710160"/>
            <a:ext cx="3124080" cy="229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172200" y="4181400"/>
            <a:ext cx="297180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How can you tell…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6386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mething is scientific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LOR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c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g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erv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pli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94320" y="3276720"/>
            <a:ext cx="2749680" cy="3581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124080" cy="2092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3733920"/>
            <a:ext cx="3083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How can you tell…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cience: Satisfies all 6 PLOR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seudoscience: Does not satisfy all 6 PLORNT, bu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laim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to be scie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science: Does not satisfy all 6 PLORNT, do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claim to be scie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84480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y slides, you don’t have to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because it’s all online.  But I underline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nt you to write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hat’s Your Sign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ing PLORNT: Analyzing astrology - do birthdates reliably correspond with personality characteristic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it a science, pseudoscience, or non-scie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hat’s Your Sign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9000" y="1981080"/>
            <a:ext cx="50292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Popcorn read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others are reading, underline things you think will help you determine whether astrology is a science or no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On your piece of paper, write your birthdate (month and day), and the number for your personality trait clus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Before we reveal the answer…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76360" y="1981080"/>
            <a:ext cx="51814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bility (fraction) tha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you’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hoose the “right” number just by cha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any students in this class would probably choose the “right” number just by cha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3232080" cy="4267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600200" y="4264200"/>
            <a:ext cx="183996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hat’s Your Sign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52680" y="1981080"/>
            <a:ext cx="510552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s your slip to your part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te whether your partner’s number matches his/her birthda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swers ar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7:19:27Z</dcterms:created>
  <dc:creator>Rebecca Stang</dc:creator>
  <dc:description/>
  <dc:language>en-US</dc:language>
  <cp:lastModifiedBy>Rebecca Stang</cp:lastModifiedBy>
  <dcterms:modified xsi:type="dcterms:W3CDTF">2009-08-26T23:26:42Z</dcterms:modified>
  <cp:revision>32</cp:revision>
  <dc:subject/>
  <dc:title>9/4  Characteristics of Science</dc:title>
</cp:coreProperties>
</file>